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F66-2CB3-42B8-9AAE-6089B96B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586-F52A-4051-B010-AA44A07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909-9870-4E63-A5FD-372CB327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17B-0E3B-458A-B3C3-805E5F04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2D3-3201-44EF-9D32-BC40D191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751-D7B7-44C8-9FC1-C8F6F26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2E2-6BA0-43DD-9D9B-F1DC4ADE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8DC-16E0-4219-9C9B-4048AC8E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C82-CA71-442F-AC68-7568D75F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BC0-E805-411D-AD85-C1F2183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9A8-3983-40A3-B30A-50BCB1A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460-C836-4816-8166-A62F593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BEE7-DBFA-47E0-95D5-D90A62249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3.png"/><Relationship Id="rId3" Type="http://schemas.openxmlformats.org/officeDocument/2006/relationships/image" Target="../media/image65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Regressi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echniq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58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g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6583" r="0" b="0"/>
          <a:stretch/>
        </p:blipFill>
        <p:spPr>
          <a:xfrm>
            <a:off x="990720" y="259092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3432"/>
          <a:stretch/>
        </p:blipFill>
        <p:spPr>
          <a:xfrm>
            <a:off x="990720" y="60948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18946" t="0" r="0" b="77180"/>
          <a:stretch/>
        </p:blipFill>
        <p:spPr>
          <a:xfrm>
            <a:off x="1447920" y="5410080"/>
            <a:ext cx="6629400" cy="60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13686" t="20022" r="68428" b="65734"/>
          <a:stretch/>
        </p:blipFill>
        <p:spPr>
          <a:xfrm>
            <a:off x="6934320" y="5486400"/>
            <a:ext cx="1295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618c6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428" r="0" b="0"/>
          <a:stretch/>
        </p:blipFill>
        <p:spPr>
          <a:xfrm>
            <a:off x="990720" y="3276720"/>
            <a:ext cx="70102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85565" r="0" b="0"/>
          <a:stretch/>
        </p:blipFill>
        <p:spPr>
          <a:xfrm>
            <a:off x="838080" y="304920"/>
            <a:ext cx="7086600" cy="42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0" b="16693"/>
          <a:stretch/>
        </p:blipFill>
        <p:spPr>
          <a:xfrm>
            <a:off x="914400" y="83808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858000" cy="38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86000" y="2895480"/>
            <a:ext cx="342900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0" b="19063"/>
          <a:stretch/>
        </p:blipFill>
        <p:spPr>
          <a:xfrm>
            <a:off x="1828800" y="4952880"/>
            <a:ext cx="4800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47920" y="3429000"/>
            <a:ext cx="426708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9480" y="4800600"/>
            <a:ext cx="687096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rcRect l="0" t="0" r="0" b="22238"/>
          <a:stretch/>
        </p:blipFill>
        <p:spPr>
          <a:xfrm>
            <a:off x="1905120" y="5334120"/>
            <a:ext cx="2895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43:43Z</dcterms:modified>
  <cp:revision>114</cp:revision>
  <dc:subject/>
  <dc:title>The Art in the State of the Art</dc:title>
</cp:coreProperties>
</file>